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1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2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3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4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63760" y="3746520"/>
            <a:ext cx="3619800" cy="9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67684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2760" y="127008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82760" y="405144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965160" y="3759120"/>
            <a:ext cx="3619440" cy="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4360" indent="-2829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1" marL="89712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2" marL="129960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3" marL="170208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4" marL="210420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5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6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453960" indent="-28260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47080" indent="-28116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24920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65168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205416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931000" y="1942920"/>
            <a:ext cx="323856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1000"/>
          </a:bodyPr>
          <a:p>
            <a:pPr marL="3099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59292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88128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16964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4583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435600" indent="-27108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12880" indent="-26964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1988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58508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19710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87028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MediaWiki file storage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the files, they are a-changing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374040" y="6374880"/>
            <a:ext cx="32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Brion Vibber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edia Foundation, Inc.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2" name=""/>
          <p:cNvSpPr/>
          <p:nvPr/>
        </p:nvSpPr>
        <p:spPr>
          <a:xfrm>
            <a:off x="6814800" y="6368760"/>
            <a:ext cx="2931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ania Hacking Days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ambridge, M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3" name=""/>
          <p:cNvSpPr/>
          <p:nvPr/>
        </p:nvSpPr>
        <p:spPr>
          <a:xfrm>
            <a:off x="4174560" y="6527520"/>
            <a:ext cx="17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August 3, 2006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206360" y="622440"/>
            <a:ext cx="7531200" cy="63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82400" y="1942920"/>
            <a:ext cx="932148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efore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images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c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cf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/</a:t>
            </a:r>
            <a:r>
              <a:rPr b="0" lang="en-US" sz="2800" spc="-1" strike="noStrike">
                <a:solidFill>
                  <a:srgbClr val="342e78"/>
                </a:solidFill>
                <a:latin typeface="Gill Sans"/>
              </a:rPr>
              <a:t>Blarf_bloo_ble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n-US" sz="2800" spc="-1" strike="noStrike">
                <a:solidFill>
                  <a:srgbClr val="006f04"/>
                </a:solidFill>
                <a:latin typeface="Gill Sans"/>
              </a:rPr>
              <a:t>jp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or-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images/archive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c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cf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/20060803022344!</a:t>
            </a:r>
            <a:r>
              <a:rPr b="0" lang="en-US" sz="2800" spc="-1" strike="noStrike">
                <a:solidFill>
                  <a:srgbClr val="342e78"/>
                </a:solidFill>
                <a:latin typeface="Gill Sans"/>
              </a:rPr>
              <a:t>Awesome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.</a:t>
            </a:r>
            <a:r>
              <a:rPr b="0" lang="en-US" sz="2800" spc="-1" strike="noStrike">
                <a:solidFill>
                  <a:srgbClr val="007900"/>
                </a:solidFill>
                <a:latin typeface="Gill Sans"/>
              </a:rPr>
              <a:t>jpg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fter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ages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/</a:t>
            </a:r>
            <a:r>
              <a:rPr b="0" lang="en-US" sz="2800" spc="-1" strike="noStrike">
                <a:solidFill>
                  <a:srgbClr val="c21207"/>
                </a:solidFill>
                <a:latin typeface="Gill Sans"/>
              </a:rPr>
              <a:t>07dn2l6f2u2qn5bd2mlvx7kvwjhoj1y2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n-US" sz="2800" spc="-1" strike="noStrike">
                <a:solidFill>
                  <a:srgbClr val="007900"/>
                </a:solidFill>
                <a:latin typeface="Gill Sans"/>
              </a:rPr>
              <a:t>jpg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Eww! Why’s that good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479160" indent="-2685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URLs remain stable, simplifying caching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79160" indent="-2685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ffsite copy-on-request mirrors will be possibl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79160" indent="-2685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void storage waste for duplicate upload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79160" indent="-2685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void storage waste for revert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79160" indent="-2685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void fragile file copying on replacement uploa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79160" indent="-2685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les could be renamed in the interface without worrying about the filesystem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Naming requirement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ase-16 of a 160-bit hash is 40 chars, very long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ase-64 smaller but not safe, if we want to work on case-insensitive filesystem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ase-32 or base-36 fit in 32 character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ne digit, three levels should work pretty wel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Hash subdirs should not include “ad” or other “words” that trigger common filter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